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8686800" cy="5324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E:/Apresenta&#231;&#227;o%20da%20D&#233;bora%20CTEM/AAAA/MAPEAMENTO.ppt" TargetMode="External"/><Relationship Id="rId2" Type="http://schemas.openxmlformats.org/officeDocument/2006/relationships/hyperlink" Target="file:///E:/Apresenta&#231;&#227;o%20da%20D&#233;bora%20CTEM/AAAA/Tabela%20Resumo.ppt" TargetMode="External"/><Relationship Id="rId3" Type="http://schemas.openxmlformats.org/officeDocument/2006/relationships/hyperlink" Target="file:///E:/Apresenta&#231;&#227;o%20da%20D&#233;bora%20CTEM/AAAA/ENTREVISTAS.ppt" TargetMode="External"/><Relationship Id="rId4" Type="http://schemas.openxmlformats.org/officeDocument/2006/relationships/hyperlink" Target="file:///E:/Apresenta&#231;&#227;o%20da%20D&#233;bora%20CTEM/AAAA/Formul&#225;rio%20de%20sele&#231;&#227;o%20padr&#227;o.ppt" TargetMode="External"/><Relationship Id="rId5" Type="http://schemas.openxmlformats.org/officeDocument/2006/relationships/hyperlink" Target="file:///E:/Apresenta&#231;&#227;o%20da%20D&#233;bora%20CTEM/AAAA/DOCUMENTO%20CONCEITUAL.ppt" TargetMode="External"/><Relationship Id="rId6" Type="http://schemas.openxmlformats.org/officeDocument/2006/relationships/hyperlink" Target="file:///E:/Apresenta&#231;&#227;o%20da%20D&#233;bora%20CTEM/AAAA/OFICINAS%20REGIONAIS.ppt" TargetMode="External"/><Relationship Id="rId7" Type="http://schemas.openxmlformats.org/officeDocument/2006/relationships/hyperlink" Target="file:///E:/Apresenta&#231;&#227;o%20da%20D&#233;bora%20CTEM/AAAA/F&#211;RUM%20PRE%20SEMINARIO.ppt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665964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 Narrow"/>
              </a:rPr>
              <a:t>A CONSTRUÇÃO DE UM PROGRAMA NACIONAL DE EDUCAÇÃO AMBIENTAL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2989080" y="4365720"/>
            <a:ext cx="6119640" cy="10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Débora Cynamon Kligerman Ph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635280" y="5878440"/>
            <a:ext cx="5473800" cy="719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rasília, 24 de Outubro de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3068640"/>
            <a:ext cx="6372360" cy="1152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âmara Técnica de Educação, Capacitação e Mobilização Social em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84720" y="514980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e-mail: kliger@ensp.fiocruz.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00360" y="981000"/>
            <a:ext cx="54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 Narrow"/>
              </a:rPr>
              <a:t>MOBILIZAÇÃO SOCIAL PARA O SANEAMENTO - PEAM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484360" y="1773000"/>
            <a:ext cx="6400800" cy="226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adunar o </a:t>
            </a:r>
            <a:r>
              <a:rPr b="1" lang="en-US" sz="3200" spc="-1" strike="noStrike">
                <a:solidFill>
                  <a:srgbClr val="ff9933"/>
                </a:solidFill>
                <a:latin typeface="Arial Narrow"/>
              </a:rPr>
              <a:t>Desenvolvimento Social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com a </a:t>
            </a:r>
            <a:r>
              <a:rPr b="1" lang="en-US" sz="3200" spc="-1" strike="noStrike">
                <a:solidFill>
                  <a:srgbClr val="ff9933"/>
                </a:solidFill>
                <a:latin typeface="Arial Narrow"/>
              </a:rPr>
              <a:t>Proteção dos Patrimônios Naturais</a:t>
            </a:r>
            <a:r>
              <a:rPr b="1" lang="en-US" sz="3200" spc="-1" strike="noStrike">
                <a:solidFill>
                  <a:srgbClr val="ff99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9933"/>
                </a:solidFill>
                <a:latin typeface="Arial Narrow"/>
              </a:rPr>
              <a:t>e Culturais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é o desafio das estratégias de Saneamento Ambiental que estejam preocupadas com a Sustentabilidade das local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770200" y="250920"/>
            <a:ext cx="6330960" cy="1439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770200" y="4941720"/>
            <a:ext cx="6330960" cy="144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ffee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CEA, DEA, CODEVASF, AN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CGEA, SED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17840" y="1798560"/>
            <a:ext cx="6400800" cy="226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 Narrow"/>
              </a:rPr>
              <a:t>Respeito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os limites do meio natural e às necessidades locais e </a:t>
            </a:r>
            <a:r>
              <a:rPr b="1" lang="en-US" sz="3200" spc="-1" strike="noStrike">
                <a:solidFill>
                  <a:srgbClr val="ff66ff"/>
                </a:solidFill>
                <a:latin typeface="Arial Narrow"/>
              </a:rPr>
              <a:t>Valorização das Potencialidades Regionais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o processo de discussão de estratégias e implantação de ações em Saneamento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770200" y="250920"/>
            <a:ext cx="6330960" cy="1439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770200" y="5037120"/>
            <a:ext cx="6330960" cy="144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abff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ff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AT/PROSANEAR;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CEA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;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DEA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CGEA; SED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17840" y="1798560"/>
            <a:ext cx="6400800" cy="21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f505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 Narrow"/>
              </a:rPr>
              <a:t>Percepção, Habilidade, Atitude</a:t>
            </a:r>
            <a:r>
              <a:rPr b="0" lang="en-US" sz="3200" spc="-1" strike="noStrike">
                <a:solidFill>
                  <a:srgbClr val="ccccff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 busca de</a:t>
            </a:r>
            <a:r>
              <a:rPr b="0" lang="en-US" sz="3200" spc="-1" strike="noStrike">
                <a:solidFill>
                  <a:srgbClr val="cccc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5050"/>
                </a:solidFill>
                <a:latin typeface="Arial Narrow"/>
              </a:rPr>
              <a:t>Potencialidades</a:t>
            </a:r>
            <a:r>
              <a:rPr b="0" lang="en-US" sz="3200" spc="-1" strike="noStrike">
                <a:solidFill>
                  <a:srgbClr val="ccccff"/>
                </a:solidFill>
                <a:latin typeface="Arial Narrow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onde os </a:t>
            </a:r>
            <a:r>
              <a:rPr b="1" lang="en-US" sz="3200" spc="-1" strike="noStrike">
                <a:solidFill>
                  <a:srgbClr val="ff5050"/>
                </a:solidFill>
                <a:latin typeface="Arial Narrow"/>
              </a:rPr>
              <a:t>Meios de Comunicação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devem contribuir para aumentar a capacidade das comunidades na resolução dos problemas de Saneamento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770200" y="250920"/>
            <a:ext cx="6330960" cy="1439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770200" y="5037120"/>
            <a:ext cx="6330960" cy="144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ffd5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CEA, ANA, </a:t>
            </a:r>
            <a:r>
              <a:rPr b="1" lang="en-US" sz="3200" spc="-1" strike="noStrike">
                <a:solidFill>
                  <a:srgbClr val="ccccff"/>
                </a:solidFill>
                <a:latin typeface="Arial Narrow"/>
                <a:ea typeface="Arial"/>
              </a:rPr>
              <a:t>CGEA</a:t>
            </a:r>
            <a:r>
              <a:rPr b="1" lang="en-US" sz="3200" spc="-1" strike="noStrike">
                <a:solidFill>
                  <a:srgbClr val="ccccff"/>
                </a:solidFill>
                <a:latin typeface="Arial Narrow"/>
                <a:ea typeface="Arial"/>
              </a:rPr>
              <a:t>,</a:t>
            </a:r>
            <a:r>
              <a:rPr b="1" lang="en-US" sz="3200" spc="-1" strike="noStrike">
                <a:solidFill>
                  <a:srgbClr val="ccccff"/>
                </a:solidFill>
                <a:latin typeface="Arial Narrow"/>
                <a:ea typeface="Arial"/>
              </a:rPr>
              <a:t>DEA</a:t>
            </a:r>
            <a:r>
              <a:rPr b="1" lang="en-US" sz="3200" spc="-1" strike="noStrike">
                <a:solidFill>
                  <a:srgbClr val="ccccff"/>
                </a:solidFill>
                <a:latin typeface="Arial Narrow"/>
                <a:ea typeface="Arial"/>
              </a:rPr>
              <a:t>,</a:t>
            </a:r>
            <a:r>
              <a:rPr b="1" lang="en-US" sz="3200" spc="-1" strike="noStrike">
                <a:solidFill>
                  <a:srgbClr val="ccccff"/>
                </a:solidFill>
                <a:latin typeface="Arial Narrow"/>
                <a:ea typeface="Arial"/>
              </a:rPr>
              <a:t>SED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517840" y="1798560"/>
            <a:ext cx="6400800" cy="254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ada indivíduo, grupo, coletivo é responsável pela sua constante formação por ser conhecedor de suas </a:t>
            </a:r>
            <a:r>
              <a:rPr b="1" lang="en-US" sz="3200" spc="-1" strike="noStrike">
                <a:solidFill>
                  <a:srgbClr val="00cc99"/>
                </a:solidFill>
                <a:latin typeface="Arial Narrow"/>
              </a:rPr>
              <a:t>potencialidades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e </a:t>
            </a:r>
            <a:r>
              <a:rPr b="1" lang="en-US" sz="3200" spc="-1" strike="noStrike">
                <a:solidFill>
                  <a:srgbClr val="00cc99"/>
                </a:solidFill>
                <a:latin typeface="Arial Narrow"/>
              </a:rPr>
              <a:t>dificuldades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e ser capaz de diagnosticar sua realidade e contribuir com sua </a:t>
            </a:r>
            <a:r>
              <a:rPr b="1" lang="en-US" sz="3200" spc="-1" strike="noStrike">
                <a:solidFill>
                  <a:srgbClr val="00cc99"/>
                </a:solidFill>
                <a:latin typeface="Arial Narrow"/>
              </a:rPr>
              <a:t>transformação</a:t>
            </a:r>
            <a:r>
              <a:rPr b="0" lang="en-US" sz="3200" spc="-1" strike="noStrike">
                <a:solidFill>
                  <a:srgbClr val="00cc99"/>
                </a:solidFill>
                <a:latin typeface="Arial Narrow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770200" y="250920"/>
            <a:ext cx="6330960" cy="1439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770200" y="5037120"/>
            <a:ext cx="6330960" cy="16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8b8ad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a7dd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ASS/BID; PAT/PROSANEAR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HBB/BID;PROÁGU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 Narrow"/>
                <a:ea typeface="Arial"/>
              </a:rPr>
              <a:t>SEDEC;DEA, CG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-98280"/>
            <a:ext cx="6372360" cy="107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RITICAS/SUGESTÕES AO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MINISTÉRIO DAS CIDA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8560" y="1437840"/>
            <a:ext cx="6769080" cy="54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Maior articulação com o PROÁGUA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M.C. deverá dar “novas” diretrizes em EA para Saneamento (CEF)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M.C. ainda não tem percepção de como ações de EA darão sustentabilidade à obra (CEF)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M.C. deverá ter metodologia de avaliação do alcance de suas ações e magnitude dos benefícios (PAT/PROSANEAR)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Há necessidade de Reformas. O M.C. deverá exercer sua função de </a:t>
            </a:r>
            <a:r>
              <a:rPr b="1" lang="en-US" sz="2700" spc="-1" strike="noStrike">
                <a:solidFill>
                  <a:srgbClr val="000000"/>
                </a:solidFill>
                <a:latin typeface="Arial Narrow"/>
              </a:rPr>
              <a:t>Formulador</a:t>
            </a: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 e </a:t>
            </a:r>
            <a:r>
              <a:rPr b="1" lang="en-US" sz="2700" spc="-1" strike="noStrike">
                <a:solidFill>
                  <a:srgbClr val="000000"/>
                </a:solidFill>
                <a:latin typeface="Arial Narrow"/>
              </a:rPr>
              <a:t>Implementador</a:t>
            </a: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 da Política de Saneamento. Como regulador e controlador dos prestadores de serviço deverá incentivar à redução de perdas (ao invés de financiar ampliação de sistema) (PASS/BID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700360" y="1798200"/>
            <a:ext cx="6626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Política de Saneamento deverá mediar os conflitos entre as 3 esferas do governo pelos usos das águas (AN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lógica, ao implementar programas como PRODES deve ser: pagar pela quantidade de esgoto tratado objetivando diminuir custo 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ument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ficiênci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ANA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mportância da RECESA (AN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ão há no quadro de servidores do MC profissionais para manutenção de programas após término de contrato do terceirizado (HB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6640" y="-100440"/>
            <a:ext cx="6705720" cy="132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RITICAS/SUGESTÕES AO MINISTÉRIO DAS CIDA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630864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RITICAS/SUGESTÕES AO GOVERNO FEDE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10920" y="1483920"/>
            <a:ext cx="6659640" cy="541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alta de intercâmbio com outros programas de abastecimento de água (PROÁGUA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inistérios atuam isoladament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PROÁGUA)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ão há discussão entre todos os Ministérios da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riz de Investimento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PROÁGUA)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ecessidade de esforço técnico e institucional para abordagem mais integrada e participativa  (PAT/PROSANEAR)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á inércia tanto do governo quanto da população em relação aos desastres (SEDEC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alta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articipação da população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no planejamento de estratégias (SEDEC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6372360" cy="10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RITICAS/SUGESTÕES AO GOVERNO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FEDERAL (E.A. p/ Saneamen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17840" y="2087640"/>
            <a:ext cx="6302160" cy="429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ções de EA não devem se restringir à Escolas (DEA)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grama de Formação de Fiscais encontra resistência no próprio IBAMA (CGFIS) 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apacitação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dos beneficiários tanto em termos técnicos (execução de obra) quanto reforço institucional (PAT/PROSANEA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517840" y="1798200"/>
            <a:ext cx="6626160" cy="431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locação d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cursos para projeto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de E.A. (CGEA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EC não tem especificamente E.A. trabalha com público alvo (CGEA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.A. não tem enraizamento no próprio governo (CGEA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ificuldade em executar ações de E.A. por falta de pessoal qualificado (HB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0" y="115920"/>
            <a:ext cx="6516720" cy="10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RITICAS/SUGESTÕES AO GOVERNO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FEDERAL (E.A. p/ Saneamen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ROPOST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17840" y="1557360"/>
            <a:ext cx="640080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inistério do Planejamento deveria promover a transversalidade dos program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ativar Câmara Interministerial para articulação dos diversos program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.C. deveria acompanhar a gestão das prestadoras de serviços. Há grandes diferenç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ecessidade de diminuir perda de água e melhorar a sua gest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17840" y="189000"/>
            <a:ext cx="640080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OBJETI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00360" y="1081080"/>
            <a:ext cx="6443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 Narrow"/>
                <a:ea typeface="Arial"/>
              </a:rPr>
              <a:t>Elaborar um Programa com diretrizes e parâmetros para as ações cuja a finalidade seja sensibilizar, mobilizar e formar agentes multiplicadores, promovendo a Educação Ambiental para o Saneamento, de forma a apoiar os programas e as ações de saneamento ambiental conduzidas pelo Governo Federal, a fim de conferir sustentabilidade e consolidação aos investimentos e à melhoria da qualidade de vida da popul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ROPOST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17840" y="1412640"/>
            <a:ext cx="644688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ecessidade de capacitar gestores em Gestão Ambiental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scalização Preventiva. “Fiscal Educador”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letivos Educadores trabalharem com Saneamento Ambiental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AT gostaria de ser política de govern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rabalho de Mobilização em Saneamento visando incentivo à criação de Comissão Local de Saneamento e evoluir para Conselho Municipal de Saneament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ROPOST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17840" y="1485720"/>
            <a:ext cx="6400800" cy="511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riação de Programa mais amplo em E.A., apontando para a necessidade de institucionalização de E.A., no sistema de ensin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riação de Diretoria de Revitalização do Rio São Francisco no M.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gentes de saúde deveriam ser também capacitados para serem agentes de defesa civil (SEDEC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545920" y="2679840"/>
            <a:ext cx="6418440" cy="16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VALIAÇÃO E SISTEMATIZAÇÃO DOS DADOS COLETADOS NOS OBSERVATÓRIOS REGION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-108000" y="25092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FACILIDADES / FACILITAD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814480" y="1557360"/>
            <a:ext cx="6221520" cy="474012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98200" cy="683748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47520"/>
            <a:ext cx="8998200" cy="683748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920" y="115560"/>
            <a:ext cx="64008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ENTÃO.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700360" y="1600200"/>
            <a:ext cx="63928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s primeiros passos já foram dados. For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dentificados tanto do Governo Feder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(entrevistas) como dos outros atores (oficina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8005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ções que já estão em andamento nas Políticas Públicas (facilidades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8005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onde avançar (dificuldades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8005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mo avançar (propostas e estratégi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40" y="250560"/>
            <a:ext cx="6400800" cy="87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ONCLUI-SE QU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635200" y="1368360"/>
            <a:ext cx="6400800" cy="522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á necessidade de Maior Articulação entre Governo Federal (Câmara Interministerial)  e os governos estaduais e municipai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á Necessidade de Melhor Gestão dos Sistemas Existentes (RECESA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á Necessidade de Capacitação dos Atores Sociais em todos os níveis de atuação. Atenção especial aos que trabalham nas prestadoras de serviç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á Necessidade de elaboração de um currículo mínimo que atenda as necessidades de EA para o Saneamento de forma efetiv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2840" y="115560"/>
            <a:ext cx="575316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17840" y="1437840"/>
            <a:ext cx="6302160" cy="487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Pensar na Sustentabilidade das ações de Saneamento; para isto é importante a discussão do conceito de EA para o Saneamento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Aproveitamento da Capilaridade (MMA e MEC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Utilização dos Instrumentos e Programas já existentes (Agenda 21; orçamento participativo; Saúde da Famí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4920" y="-27360"/>
            <a:ext cx="64008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DESAFIO EM TERMOS DE EA PARA SANEA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17840" y="1798200"/>
            <a:ext cx="6400800" cy="449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nfatizar a escala local como aquela capaz de possibilitar a participação e a gestão comunitária em prol da implantação de tecnologias sociais sustentáveis em saneamento, sensíveis às diferenças culturais, econômicas, sociais e ambientais visando a transformação so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920" y="115560"/>
            <a:ext cx="640872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A CONSTRUÇÃO DO PEAM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43280" y="1170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tapas do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14560" y="22446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Mapeamen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70200" y="1819440"/>
            <a:ext cx="289080" cy="1295280"/>
          </a:xfrm>
          <a:custGeom>
            <a:avLst/>
            <a:gdLst>
              <a:gd name="textAreaLeft" fmla="*/ 184680 w 289080"/>
              <a:gd name="textAreaRight" fmla="*/ 289080 w 2890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14920" y="1819440"/>
            <a:ext cx="38890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Mapeamento das Ações e Program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em EA em Sanea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14920" y="2421000"/>
            <a:ext cx="24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Entrevis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72000" y="276372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Edital de melhores pr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96000" y="2178000"/>
            <a:ext cx="576360" cy="433440"/>
          </a:xfrm>
          <a:prstGeom prst="rightArrow">
            <a:avLst>
              <a:gd name="adj1" fmla="val 50000"/>
              <a:gd name="adj2" fmla="val 33243"/>
            </a:avLst>
          </a:prstGeom>
          <a:gradFill rotWithShape="0">
            <a:gsLst>
              <a:gs pos="0">
                <a:srgbClr val="8c003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15280" y="203508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Documento Concei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991640" y="2898720"/>
            <a:ext cx="287280" cy="1008000"/>
          </a:xfrm>
          <a:prstGeom prst="upDownArrow">
            <a:avLst>
              <a:gd name="adj1" fmla="val 50000"/>
              <a:gd name="adj2" fmla="val 69850"/>
            </a:avLst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488360" y="42670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Oficinas Region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136000" y="4986360"/>
            <a:ext cx="0" cy="504720"/>
          </a:xfrm>
          <a:prstGeom prst="line">
            <a:avLst/>
          </a:prstGeom>
          <a:ln w="85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488000" y="5491080"/>
            <a:ext cx="647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45240" y="5210280"/>
            <a:ext cx="18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Fóru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Pré-seminá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96000" y="5418000"/>
            <a:ext cx="720720" cy="289080"/>
          </a:xfrm>
          <a:prstGeom prst="leftRightArrow">
            <a:avLst>
              <a:gd name="adj1" fmla="val 50000"/>
              <a:gd name="adj2" fmla="val 49632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4920" y="520380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Fórum Vir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38560" y="5491080"/>
            <a:ext cx="720720" cy="287280"/>
          </a:xfrm>
          <a:prstGeom prst="leftRightArrow">
            <a:avLst>
              <a:gd name="adj1" fmla="val 50000"/>
              <a:gd name="adj2" fmla="val 49943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14560" y="5308560"/>
            <a:ext cx="13669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Seminár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38560" y="5923080"/>
            <a:ext cx="1584360" cy="720720"/>
          </a:xfrm>
          <a:prstGeom prst="line">
            <a:avLst/>
          </a:prstGeom>
          <a:ln w="92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22920" y="64278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EAM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1"/>
          </p:cNvPr>
          <p:cNvSpPr/>
          <p:nvPr/>
        </p:nvSpPr>
        <p:spPr>
          <a:xfrm>
            <a:off x="2843280" y="2565360"/>
            <a:ext cx="360360" cy="71640"/>
          </a:xfrm>
          <a:custGeom>
            <a:avLst/>
            <a:gdLst>
              <a:gd name="textAreaLeft" fmla="*/ 4320 w 360360"/>
              <a:gd name="textAreaRight" fmla="*/ 356040 w 360360"/>
              <a:gd name="textAreaTop" fmla="*/ 4320 h 71640"/>
              <a:gd name="textAreaBottom" fmla="*/ 67320 h 71640"/>
            </a:gdLst>
            <a:ahLst/>
            <a:rect l="textAreaLeft" t="textAreaTop" r="textAreaRight" b="textAreaBottom"/>
            <a:pathLst>
              <a:path w="108216" h="21600">
                <a:moveTo>
                  <a:pt x="0" y="0"/>
                </a:moveTo>
                <a:lnTo>
                  <a:pt x="108216" y="0"/>
                </a:lnTo>
                <a:lnTo>
                  <a:pt x="108216" y="21600"/>
                </a:lnTo>
                <a:lnTo>
                  <a:pt x="0" y="21600"/>
                </a:lnTo>
                <a:close/>
              </a:path>
              <a:path fill="lightenLess" w="108216" h="21600">
                <a:moveTo>
                  <a:pt x="0" y="0"/>
                </a:moveTo>
                <a:lnTo>
                  <a:pt x="108216" y="0"/>
                </a:lnTo>
                <a:lnTo>
                  <a:pt x="106816" y="1400"/>
                </a:lnTo>
                <a:lnTo>
                  <a:pt x="1400" y="1400"/>
                </a:lnTo>
                <a:close/>
              </a:path>
              <a:path fill="darken" w="108216" h="21600">
                <a:moveTo>
                  <a:pt x="108216" y="0"/>
                </a:moveTo>
                <a:lnTo>
                  <a:pt x="108216" y="21600"/>
                </a:lnTo>
                <a:lnTo>
                  <a:pt x="106816" y="20200"/>
                </a:lnTo>
                <a:lnTo>
                  <a:pt x="106816" y="1400"/>
                </a:lnTo>
                <a:close/>
              </a:path>
              <a:path fill="darkenLess" w="108216" h="21600">
                <a:moveTo>
                  <a:pt x="108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816" y="20200"/>
                </a:lnTo>
                <a:close/>
              </a:path>
              <a:path fill="lighten" w="108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108216" h="21600">
                <a:moveTo>
                  <a:pt x="48581" y="3985"/>
                </a:moveTo>
                <a:lnTo>
                  <a:pt x="55579" y="3985"/>
                </a:lnTo>
                <a:lnTo>
                  <a:pt x="59635" y="7484"/>
                </a:lnTo>
                <a:lnTo>
                  <a:pt x="59635" y="17615"/>
                </a:lnTo>
                <a:lnTo>
                  <a:pt x="48581" y="17615"/>
                </a:lnTo>
                <a:close/>
              </a:path>
              <a:path fill="darken" w="108216" h="21600">
                <a:moveTo>
                  <a:pt x="55579" y="3985"/>
                </a:moveTo>
                <a:lnTo>
                  <a:pt x="59635" y="7484"/>
                </a:lnTo>
                <a:lnTo>
                  <a:pt x="55579" y="7484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2"/>
          </p:cNvPr>
          <p:cNvSpPr/>
          <p:nvPr/>
        </p:nvSpPr>
        <p:spPr>
          <a:xfrm>
            <a:off x="5580000" y="2205000"/>
            <a:ext cx="287280" cy="71640"/>
          </a:xfrm>
          <a:custGeom>
            <a:avLst/>
            <a:gdLst>
              <a:gd name="textAreaLeft" fmla="*/ 4320 w 287280"/>
              <a:gd name="textAreaRight" fmla="*/ 282960 w 287280"/>
              <a:gd name="textAreaTop" fmla="*/ 4320 h 71640"/>
              <a:gd name="textAreaBottom" fmla="*/ 67320 h 71640"/>
            </a:gdLst>
            <a:ahLst/>
            <a:rect l="textAreaLeft" t="textAreaTop" r="textAreaRight" b="textAreaBottom"/>
            <a:pathLst>
              <a:path w="86292" h="21600">
                <a:moveTo>
                  <a:pt x="0" y="0"/>
                </a:moveTo>
                <a:lnTo>
                  <a:pt x="86292" y="0"/>
                </a:lnTo>
                <a:lnTo>
                  <a:pt x="86292" y="21600"/>
                </a:lnTo>
                <a:lnTo>
                  <a:pt x="0" y="21600"/>
                </a:lnTo>
                <a:close/>
              </a:path>
              <a:path fill="lightenLess" w="86292" h="21600">
                <a:moveTo>
                  <a:pt x="0" y="0"/>
                </a:moveTo>
                <a:lnTo>
                  <a:pt x="86292" y="0"/>
                </a:lnTo>
                <a:lnTo>
                  <a:pt x="84892" y="1400"/>
                </a:lnTo>
                <a:lnTo>
                  <a:pt x="1400" y="1400"/>
                </a:lnTo>
                <a:close/>
              </a:path>
              <a:path fill="darken" w="86292" h="21600">
                <a:moveTo>
                  <a:pt x="86292" y="0"/>
                </a:moveTo>
                <a:lnTo>
                  <a:pt x="86292" y="21600"/>
                </a:lnTo>
                <a:lnTo>
                  <a:pt x="84892" y="20200"/>
                </a:lnTo>
                <a:lnTo>
                  <a:pt x="84892" y="1400"/>
                </a:lnTo>
                <a:close/>
              </a:path>
              <a:path fill="darkenLess" w="86292" h="21600">
                <a:moveTo>
                  <a:pt x="86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92" y="20200"/>
                </a:lnTo>
                <a:close/>
              </a:path>
              <a:path fill="lighten" w="86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86292" h="21600">
                <a:moveTo>
                  <a:pt x="37619" y="3985"/>
                </a:moveTo>
                <a:lnTo>
                  <a:pt x="44617" y="3985"/>
                </a:lnTo>
                <a:lnTo>
                  <a:pt x="48673" y="7484"/>
                </a:lnTo>
                <a:lnTo>
                  <a:pt x="48673" y="17615"/>
                </a:lnTo>
                <a:lnTo>
                  <a:pt x="37619" y="17615"/>
                </a:lnTo>
                <a:close/>
              </a:path>
              <a:path fill="darken" w="86292" h="21600">
                <a:moveTo>
                  <a:pt x="44617" y="3985"/>
                </a:moveTo>
                <a:lnTo>
                  <a:pt x="48673" y="7484"/>
                </a:lnTo>
                <a:lnTo>
                  <a:pt x="44617" y="7484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3"/>
          </p:cNvPr>
          <p:cNvSpPr/>
          <p:nvPr/>
        </p:nvSpPr>
        <p:spPr>
          <a:xfrm>
            <a:off x="4716360" y="2565360"/>
            <a:ext cx="216000" cy="71640"/>
          </a:xfrm>
          <a:custGeom>
            <a:avLst/>
            <a:gdLst>
              <a:gd name="textAreaLeft" fmla="*/ 4320 w 216000"/>
              <a:gd name="textAreaRight" fmla="*/ 211680 w 216000"/>
              <a:gd name="textAreaTop" fmla="*/ 4320 h 71640"/>
              <a:gd name="textAreaBottom" fmla="*/ 67320 h 71640"/>
            </a:gdLst>
            <a:ahLst/>
            <a:rect l="textAreaLeft" t="textAreaTop" r="textAreaRight" b="textAreaBottom"/>
            <a:pathLst>
              <a:path w="64908" h="21600">
                <a:moveTo>
                  <a:pt x="0" y="0"/>
                </a:moveTo>
                <a:lnTo>
                  <a:pt x="64908" y="0"/>
                </a:lnTo>
                <a:lnTo>
                  <a:pt x="64908" y="21600"/>
                </a:lnTo>
                <a:lnTo>
                  <a:pt x="0" y="21600"/>
                </a:lnTo>
                <a:close/>
              </a:path>
              <a:path fill="lightenLess" w="64908" h="21600">
                <a:moveTo>
                  <a:pt x="0" y="0"/>
                </a:moveTo>
                <a:lnTo>
                  <a:pt x="64908" y="0"/>
                </a:lnTo>
                <a:lnTo>
                  <a:pt x="63508" y="1400"/>
                </a:lnTo>
                <a:lnTo>
                  <a:pt x="1400" y="1400"/>
                </a:lnTo>
                <a:close/>
              </a:path>
              <a:path fill="darken" w="64908" h="21600">
                <a:moveTo>
                  <a:pt x="64908" y="0"/>
                </a:moveTo>
                <a:lnTo>
                  <a:pt x="64908" y="21600"/>
                </a:lnTo>
                <a:lnTo>
                  <a:pt x="63508" y="20200"/>
                </a:lnTo>
                <a:lnTo>
                  <a:pt x="63508" y="1400"/>
                </a:lnTo>
                <a:close/>
              </a:path>
              <a:path fill="darkenLess" w="64908" h="21600">
                <a:moveTo>
                  <a:pt x="64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508" y="20200"/>
                </a:lnTo>
                <a:close/>
              </a:path>
              <a:path fill="lighten" w="64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64908" h="21600">
                <a:moveTo>
                  <a:pt x="26927" y="3985"/>
                </a:moveTo>
                <a:lnTo>
                  <a:pt x="33925" y="3985"/>
                </a:lnTo>
                <a:lnTo>
                  <a:pt x="37981" y="7484"/>
                </a:lnTo>
                <a:lnTo>
                  <a:pt x="37981" y="17615"/>
                </a:lnTo>
                <a:lnTo>
                  <a:pt x="26927" y="17615"/>
                </a:lnTo>
                <a:close/>
              </a:path>
              <a:path fill="darken" w="64908" h="21600">
                <a:moveTo>
                  <a:pt x="33925" y="3985"/>
                </a:moveTo>
                <a:lnTo>
                  <a:pt x="37981" y="7484"/>
                </a:lnTo>
                <a:lnTo>
                  <a:pt x="33925" y="7484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4"/>
          </p:cNvPr>
          <p:cNvSpPr/>
          <p:nvPr/>
        </p:nvSpPr>
        <p:spPr>
          <a:xfrm>
            <a:off x="5724360" y="2924280"/>
            <a:ext cx="287640" cy="73080"/>
          </a:xfrm>
          <a:custGeom>
            <a:avLst/>
            <a:gdLst>
              <a:gd name="textAreaLeft" fmla="*/ 4680 w 287640"/>
              <a:gd name="textAreaRight" fmla="*/ 282960 w 287640"/>
              <a:gd name="textAreaTop" fmla="*/ 4680 h 73080"/>
              <a:gd name="textAreaBottom" fmla="*/ 68400 h 73080"/>
            </a:gdLst>
            <a:ahLst/>
            <a:rect l="textAreaLeft" t="textAreaTop" r="textAreaRight" b="textAreaBottom"/>
            <a:pathLst>
              <a:path w="84706" h="21600">
                <a:moveTo>
                  <a:pt x="0" y="0"/>
                </a:moveTo>
                <a:lnTo>
                  <a:pt x="84706" y="0"/>
                </a:lnTo>
                <a:lnTo>
                  <a:pt x="84706" y="21600"/>
                </a:lnTo>
                <a:lnTo>
                  <a:pt x="0" y="21600"/>
                </a:lnTo>
                <a:close/>
              </a:path>
              <a:path fill="lightenLess" w="84706" h="21600">
                <a:moveTo>
                  <a:pt x="0" y="0"/>
                </a:moveTo>
                <a:lnTo>
                  <a:pt x="84706" y="0"/>
                </a:lnTo>
                <a:lnTo>
                  <a:pt x="83306" y="1400"/>
                </a:lnTo>
                <a:lnTo>
                  <a:pt x="1400" y="1400"/>
                </a:lnTo>
                <a:close/>
              </a:path>
              <a:path fill="darken" w="84706" h="21600">
                <a:moveTo>
                  <a:pt x="84706" y="0"/>
                </a:moveTo>
                <a:lnTo>
                  <a:pt x="84706" y="21600"/>
                </a:lnTo>
                <a:lnTo>
                  <a:pt x="83306" y="20200"/>
                </a:lnTo>
                <a:lnTo>
                  <a:pt x="83306" y="1400"/>
                </a:lnTo>
                <a:close/>
              </a:path>
              <a:path fill="darkenLess" w="84706" h="21600">
                <a:moveTo>
                  <a:pt x="84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306" y="20200"/>
                </a:lnTo>
                <a:close/>
              </a:path>
              <a:path fill="lighten" w="84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84706" h="21600">
                <a:moveTo>
                  <a:pt x="36826" y="3985"/>
                </a:moveTo>
                <a:lnTo>
                  <a:pt x="43824" y="3985"/>
                </a:lnTo>
                <a:lnTo>
                  <a:pt x="47880" y="7484"/>
                </a:lnTo>
                <a:lnTo>
                  <a:pt x="47880" y="17615"/>
                </a:lnTo>
                <a:lnTo>
                  <a:pt x="36826" y="17615"/>
                </a:lnTo>
                <a:close/>
              </a:path>
              <a:path fill="darken" w="84706" h="21600">
                <a:moveTo>
                  <a:pt x="43824" y="3985"/>
                </a:moveTo>
                <a:lnTo>
                  <a:pt x="47880" y="7484"/>
                </a:lnTo>
                <a:lnTo>
                  <a:pt x="43824" y="7484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5"/>
          </p:cNvPr>
          <p:cNvSpPr/>
          <p:nvPr/>
        </p:nvSpPr>
        <p:spPr>
          <a:xfrm>
            <a:off x="8532720" y="2635200"/>
            <a:ext cx="322200" cy="73080"/>
          </a:xfrm>
          <a:custGeom>
            <a:avLst/>
            <a:gdLst>
              <a:gd name="textAreaLeft" fmla="*/ 4680 w 322200"/>
              <a:gd name="textAreaRight" fmla="*/ 317520 w 322200"/>
              <a:gd name="textAreaTop" fmla="*/ 4680 h 73080"/>
              <a:gd name="textAreaBottom" fmla="*/ 68400 h 73080"/>
            </a:gdLst>
            <a:ahLst/>
            <a:rect l="textAreaLeft" t="textAreaTop" r="textAreaRight" b="textAreaBottom"/>
            <a:pathLst>
              <a:path w="94871" h="21600">
                <a:moveTo>
                  <a:pt x="0" y="0"/>
                </a:moveTo>
                <a:lnTo>
                  <a:pt x="94871" y="0"/>
                </a:lnTo>
                <a:lnTo>
                  <a:pt x="94871" y="21600"/>
                </a:lnTo>
                <a:lnTo>
                  <a:pt x="0" y="21600"/>
                </a:lnTo>
                <a:close/>
              </a:path>
              <a:path fill="lightenLess" w="94871" h="21600">
                <a:moveTo>
                  <a:pt x="0" y="0"/>
                </a:moveTo>
                <a:lnTo>
                  <a:pt x="94871" y="0"/>
                </a:lnTo>
                <a:lnTo>
                  <a:pt x="93471" y="1400"/>
                </a:lnTo>
                <a:lnTo>
                  <a:pt x="1400" y="1400"/>
                </a:lnTo>
                <a:close/>
              </a:path>
              <a:path fill="darken" w="94871" h="21600">
                <a:moveTo>
                  <a:pt x="94871" y="0"/>
                </a:moveTo>
                <a:lnTo>
                  <a:pt x="94871" y="21600"/>
                </a:lnTo>
                <a:lnTo>
                  <a:pt x="93471" y="20200"/>
                </a:lnTo>
                <a:lnTo>
                  <a:pt x="93471" y="1400"/>
                </a:lnTo>
                <a:close/>
              </a:path>
              <a:path fill="darkenLess" w="94871" h="21600">
                <a:moveTo>
                  <a:pt x="94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471" y="20200"/>
                </a:lnTo>
                <a:close/>
              </a:path>
              <a:path fill="lighten" w="94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94871" h="21600">
                <a:moveTo>
                  <a:pt x="41908" y="3985"/>
                </a:moveTo>
                <a:lnTo>
                  <a:pt x="48906" y="3985"/>
                </a:lnTo>
                <a:lnTo>
                  <a:pt x="52962" y="7484"/>
                </a:lnTo>
                <a:lnTo>
                  <a:pt x="52962" y="17615"/>
                </a:lnTo>
                <a:lnTo>
                  <a:pt x="41908" y="17615"/>
                </a:lnTo>
                <a:close/>
              </a:path>
              <a:path fill="darken" w="94871" h="21600">
                <a:moveTo>
                  <a:pt x="48906" y="3985"/>
                </a:moveTo>
                <a:lnTo>
                  <a:pt x="52962" y="7484"/>
                </a:lnTo>
                <a:lnTo>
                  <a:pt x="48906" y="7484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6"/>
          </p:cNvPr>
          <p:cNvSpPr/>
          <p:nvPr/>
        </p:nvSpPr>
        <p:spPr>
          <a:xfrm>
            <a:off x="8459640" y="4941720"/>
            <a:ext cx="216000" cy="71640"/>
          </a:xfrm>
          <a:custGeom>
            <a:avLst/>
            <a:gdLst>
              <a:gd name="textAreaLeft" fmla="*/ 4320 w 216000"/>
              <a:gd name="textAreaRight" fmla="*/ 211680 w 216000"/>
              <a:gd name="textAreaTop" fmla="*/ 4320 h 71640"/>
              <a:gd name="textAreaBottom" fmla="*/ 67320 h 71640"/>
            </a:gdLst>
            <a:ahLst/>
            <a:rect l="textAreaLeft" t="textAreaTop" r="textAreaRight" b="textAreaBottom"/>
            <a:pathLst>
              <a:path w="64908" h="21600">
                <a:moveTo>
                  <a:pt x="0" y="0"/>
                </a:moveTo>
                <a:lnTo>
                  <a:pt x="64908" y="0"/>
                </a:lnTo>
                <a:lnTo>
                  <a:pt x="64908" y="21600"/>
                </a:lnTo>
                <a:lnTo>
                  <a:pt x="0" y="21600"/>
                </a:lnTo>
                <a:close/>
              </a:path>
              <a:path fill="lightenLess" w="64908" h="21600">
                <a:moveTo>
                  <a:pt x="0" y="0"/>
                </a:moveTo>
                <a:lnTo>
                  <a:pt x="64908" y="0"/>
                </a:lnTo>
                <a:lnTo>
                  <a:pt x="63508" y="1400"/>
                </a:lnTo>
                <a:lnTo>
                  <a:pt x="1400" y="1400"/>
                </a:lnTo>
                <a:close/>
              </a:path>
              <a:path fill="darken" w="64908" h="21600">
                <a:moveTo>
                  <a:pt x="64908" y="0"/>
                </a:moveTo>
                <a:lnTo>
                  <a:pt x="64908" y="21600"/>
                </a:lnTo>
                <a:lnTo>
                  <a:pt x="63508" y="20200"/>
                </a:lnTo>
                <a:lnTo>
                  <a:pt x="63508" y="1400"/>
                </a:lnTo>
                <a:close/>
              </a:path>
              <a:path fill="darkenLess" w="64908" h="21600">
                <a:moveTo>
                  <a:pt x="64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508" y="20200"/>
                </a:lnTo>
                <a:close/>
              </a:path>
              <a:path fill="lighten" w="64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64908" h="21600">
                <a:moveTo>
                  <a:pt x="26927" y="3985"/>
                </a:moveTo>
                <a:lnTo>
                  <a:pt x="33925" y="3985"/>
                </a:lnTo>
                <a:lnTo>
                  <a:pt x="37981" y="7484"/>
                </a:lnTo>
                <a:lnTo>
                  <a:pt x="37981" y="17615"/>
                </a:lnTo>
                <a:lnTo>
                  <a:pt x="26927" y="17615"/>
                </a:lnTo>
                <a:close/>
              </a:path>
              <a:path fill="darken" w="64908" h="21600">
                <a:moveTo>
                  <a:pt x="33925" y="3985"/>
                </a:moveTo>
                <a:lnTo>
                  <a:pt x="37981" y="7484"/>
                </a:lnTo>
                <a:lnTo>
                  <a:pt x="33925" y="7484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7"/>
          </p:cNvPr>
          <p:cNvSpPr/>
          <p:nvPr/>
        </p:nvSpPr>
        <p:spPr>
          <a:xfrm>
            <a:off x="5148360" y="5805360"/>
            <a:ext cx="215640" cy="71640"/>
          </a:xfrm>
          <a:custGeom>
            <a:avLst/>
            <a:gdLst>
              <a:gd name="textAreaLeft" fmla="*/ 4320 w 215640"/>
              <a:gd name="textAreaRight" fmla="*/ 211320 w 215640"/>
              <a:gd name="textAreaTop" fmla="*/ 4320 h 71640"/>
              <a:gd name="textAreaBottom" fmla="*/ 67320 h 7164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64800" h="21600">
                <a:moveTo>
                  <a:pt x="26873" y="3985"/>
                </a:moveTo>
                <a:lnTo>
                  <a:pt x="33871" y="3985"/>
                </a:lnTo>
                <a:lnTo>
                  <a:pt x="37927" y="7484"/>
                </a:lnTo>
                <a:lnTo>
                  <a:pt x="37927" y="17615"/>
                </a:lnTo>
                <a:lnTo>
                  <a:pt x="26873" y="17615"/>
                </a:lnTo>
                <a:close/>
              </a:path>
              <a:path fill="darken" w="64800" h="21600">
                <a:moveTo>
                  <a:pt x="33871" y="3985"/>
                </a:moveTo>
                <a:lnTo>
                  <a:pt x="37927" y="7484"/>
                </a:lnTo>
                <a:lnTo>
                  <a:pt x="33871" y="7484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5040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AS   ENTREVISTA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920" y="-27360"/>
            <a:ext cx="64008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OMO O GOVERNO FEDERAL ENTENDE E.A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1916280"/>
            <a:ext cx="900000" cy="792000"/>
          </a:xfrm>
          <a:prstGeom prst="rightArrow">
            <a:avLst>
              <a:gd name="adj1" fmla="val 50000"/>
              <a:gd name="adj2" fmla="val 28409"/>
            </a:avLst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94560" y="1628640"/>
            <a:ext cx="2158920" cy="144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Educação pa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Gestão Ambi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17840" y="3247920"/>
            <a:ext cx="215892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roá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AT/PROSAN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ASS/B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HBB/B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7840" y="1628640"/>
            <a:ext cx="215892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EA/IB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GFIS/IB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19640" y="3716280"/>
            <a:ext cx="900000" cy="792360"/>
          </a:xfrm>
          <a:prstGeom prst="rightArrow">
            <a:avLst>
              <a:gd name="adj1" fmla="val 50000"/>
              <a:gd name="adj2" fmla="val 28396"/>
            </a:avLst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34160" y="3330720"/>
            <a:ext cx="2158920" cy="1439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Mobilização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ara pro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7840" y="5851440"/>
            <a:ext cx="215892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DEA/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GEA/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SEDEC/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19640" y="5445000"/>
            <a:ext cx="900000" cy="792360"/>
          </a:xfrm>
          <a:prstGeom prst="rightArrow">
            <a:avLst>
              <a:gd name="adj1" fmla="val 50000"/>
              <a:gd name="adj2" fmla="val 28396"/>
            </a:avLst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34160" y="5059440"/>
            <a:ext cx="2158920" cy="1439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onscient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ara Mudan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de Val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64008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OMO O GOVERNO FEDERAL ATUA EM E.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627280" y="1484280"/>
            <a:ext cx="6478560" cy="518004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08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SEIS TEMAS BÁSICOS NA CONSTRUÇÃO PEAM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340000" y="1882800"/>
            <a:ext cx="3386160" cy="971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340000" y="3683160"/>
            <a:ext cx="3386160" cy="971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341440" y="5481720"/>
            <a:ext cx="3386160" cy="971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757840" y="1882800"/>
            <a:ext cx="3386160" cy="973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5757840" y="3683160"/>
            <a:ext cx="3386160" cy="971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5757840" y="5481720"/>
            <a:ext cx="33861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517840" y="1798560"/>
            <a:ext cx="6626160" cy="21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mpreende, </a:t>
            </a:r>
            <a:r>
              <a:rPr b="1" lang="en-US" sz="3200" spc="-1" strike="noStrike">
                <a:solidFill>
                  <a:srgbClr val="0099ff"/>
                </a:solidFill>
                <a:latin typeface="Arial Narrow"/>
              </a:rPr>
              <a:t>produtos, técnicas</a:t>
            </a:r>
            <a:r>
              <a:rPr b="0" lang="en-US" sz="3200" spc="-1" strike="noStrike">
                <a:solidFill>
                  <a:srgbClr val="00ffff"/>
                </a:solidFill>
                <a:latin typeface="Arial Narrow"/>
              </a:rPr>
              <a:t>, </a:t>
            </a:r>
            <a:r>
              <a:rPr b="1" lang="en-US" sz="3200" spc="-1" strike="noStrike">
                <a:solidFill>
                  <a:srgbClr val="0099ff"/>
                </a:solidFill>
                <a:latin typeface="Arial Narrow"/>
              </a:rPr>
              <a:t>metodologias</a:t>
            </a:r>
            <a:r>
              <a:rPr b="0" lang="en-US" sz="3200" spc="-1" strike="noStrike">
                <a:solidFill>
                  <a:srgbClr val="00ccff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plicáveis desenvolvidas na interação com a comunidade e que representem efetivas soluções de </a:t>
            </a:r>
            <a:r>
              <a:rPr b="1" lang="en-US" sz="3200" spc="-1" strike="noStrike">
                <a:solidFill>
                  <a:srgbClr val="0099ff"/>
                </a:solidFill>
                <a:latin typeface="Arial Narrow"/>
              </a:rPr>
              <a:t>transformação 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70200" y="4438800"/>
            <a:ext cx="6330960" cy="21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AT/PROSAN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CGEA/M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CODEVASF/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  <a:ea typeface="Arial"/>
              </a:rPr>
              <a:t>SEDEC/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771640" y="250920"/>
            <a:ext cx="633096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17840" y="1798200"/>
            <a:ext cx="6400800" cy="146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a4de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 Narrow"/>
              </a:rPr>
              <a:t>Capilaridade e Autonomia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constituem  Princípios Básicos e Éticos para Participação Comunitária no destino de suas loca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770200" y="250920"/>
            <a:ext cx="6330960" cy="1439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770200" y="4076640"/>
            <a:ext cx="6330960" cy="2581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4de00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e2f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  <a:ea typeface="Arial"/>
              </a:rPr>
              <a:t>PROÁGUA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  <a:ea typeface="Arial"/>
              </a:rPr>
              <a:t>CEA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  <a:ea typeface="Arial"/>
              </a:rPr>
              <a:t>CODEVASF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  <a:ea typeface="Arial"/>
              </a:rPr>
              <a:t>ANA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808080"/>
                </a:solidFill>
                <a:latin typeface="Arial Narrow"/>
                <a:ea typeface="Arial"/>
              </a:rPr>
              <a:t>CGEA, DEA</a:t>
            </a:r>
            <a:r>
              <a:rPr b="1" lang="en-US" sz="3100" spc="-1" strike="noStrike">
                <a:solidFill>
                  <a:srgbClr val="000000"/>
                </a:solidFill>
                <a:latin typeface="Arial Narrow"/>
                <a:ea typeface="Arial"/>
              </a:rPr>
              <a:t>, </a:t>
            </a:r>
            <a:r>
              <a:rPr b="1" lang="en-US" sz="3100" spc="-1" strike="noStrike">
                <a:solidFill>
                  <a:srgbClr val="808080"/>
                </a:solidFill>
                <a:latin typeface="Arial Narrow"/>
                <a:ea typeface="Arial"/>
              </a:rPr>
              <a:t>SEDEC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808080"/>
                </a:solidFill>
                <a:latin typeface="Arial Narrow"/>
                <a:ea typeface="Arial"/>
              </a:rPr>
              <a:t>PASS/BI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3:40:27Z</dcterms:created>
  <dc:creator>AAAAAAAAA</dc:creator>
  <dc:description/>
  <dc:language>en-US</dc:language>
  <cp:lastModifiedBy>FIESP</cp:lastModifiedBy>
  <dcterms:modified xsi:type="dcterms:W3CDTF">2006-12-24T17:41:35Z</dcterms:modified>
  <cp:revision>11</cp:revision>
  <dc:subject/>
  <dc:title>Slide sem título </dc:title>
</cp:coreProperties>
</file>